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02EE-E8FA-4356-A2A8-C047BB2B2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D2AB-1415-4572-AA8E-0990193C7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2C86-6D9A-4094-AD89-E913C3E60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5CA7-E84D-4DF6-98EA-7A1B0A835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87E1-4150-414B-8B6D-F96BD79FE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FD47-253F-466C-B365-3C82F7618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B553-4AA4-4BC4-87A0-9B4C4ED42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D9B51-5739-4F8E-80F8-480E9DA3A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C832-DAB0-4898-B7D3-443A3654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7F15D-E317-4065-84C3-2ED7D9BB0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A1E9B-575C-4ADD-82C0-B484035C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296BC-6642-4F92-8F05-A363F301E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1C6C7-5641-49CF-BD42-8D5A0A622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D907-AEA3-43FB-AAE4-A788877B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E19D-48BE-4DC2-B612-B6AF4DFA4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F44C-6144-43F3-8E5A-FA2CD6E4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3676-C025-49CA-93D6-EBA697B4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EACA7-60EF-488F-B77A-B19D635E5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2490-53E3-4CB4-8E10-FCBFDE057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CDA8-14F5-479D-97BD-5BE0060AE6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9.png"/><Relationship Id="rId16" Type="http://schemas.openxmlformats.org/officeDocument/2006/relationships/image" Target="../media/image15.png"/><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988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Preferred Customer</cp:lastModifiedBy>
  <dcterms:modified xsi:type="dcterms:W3CDTF">2009-01-12T02:45:01Z</dcterms:modified>
  <cp:revision>51</cp:revision>
  <dc:subject>Math</dc:subject>
  <dc:title>Penguin Math Book - 2nd Grade</dc:title>
</cp:coreProperties>
</file>