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AE02-3D06-488C-A8DD-499DB5FBF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82E6-0677-4A39-9153-9853C4357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6C85-725D-4CBE-91B6-5BCE4BBDE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2D34-1B3E-4DE0-A7EE-78D214FFB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C7F9-C571-4148-8A6E-AC6EBE4F8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C36B-58D4-4814-AA68-24F292A27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4086-2BAE-4C03-84DE-9EB226629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922FF-BF00-4D92-BFE7-3C704B744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0AEB7-0695-4839-B58C-C15EF8843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C3A14-25F2-49FC-84B4-66E4CFBD3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C127C-2448-4C13-8109-CA85329D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64A75-C4D2-4778-98D6-765934867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F398-6C25-4697-BD76-E41E0247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95C7-CA9E-487E-BA01-BEA8163C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F9EC4-E62B-4AB2-A91B-5E8FE523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F812-7C37-4ED8-B7E3-2CE0F778A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5C04E-D1F4-46A0-B134-9A92B27BA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A3EBB-D16A-4909-A13E-BFEB94F89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4DC7E-3BF0-412D-A3E8-14F05269A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86C8-FAF4-4F3D-BAEC-2E012B8A0F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9.png"/><Relationship Id="rId16" Type="http://schemas.openxmlformats.org/officeDocument/2006/relationships/image" Target="../media/image15.png"/><Relationship Id="rId17" Type="http://schemas.openxmlformats.org/officeDocument/2006/relationships/image" Target="../media/image14.wmf"/><Relationship Id="rId18" Type="http://schemas.openxmlformats.org/officeDocument/2006/relationships/image" Target="../media/image14.wmf"/><Relationship Id="rId19" Type="http://schemas.openxmlformats.org/officeDocument/2006/relationships/image" Target="../media/image14.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4.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988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Preferred Customer</cp:lastModifiedBy>
  <dcterms:modified xsi:type="dcterms:W3CDTF">2009-01-12T02:45:01Z</dcterms:modified>
  <cp:revision>51</cp:revision>
  <dc:subject>Math</dc:subject>
  <dc:title>Penguin Math Book - 2nd Grade</dc:title>
</cp:coreProperties>
</file>