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14A7-BDC6-4346-B9D7-8E51AB648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B98D-BD37-4AD9-AEBC-D6231E66D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F317-E412-4328-9121-D449197EC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0E43-5F4B-4270-9248-64A027F14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0A6C-3A4F-43AE-9824-7CAF9A0A7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B32E-2F7B-4072-B352-1CC54B664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9745-B3C1-490B-BFE4-39E87DB8E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D8F57-E02E-47E4-90A4-7D14D06BE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9C704-F27F-4D07-8216-9F629F7CF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A524-66CA-4D8B-809B-13A9578AC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5F3DE-0522-403C-B0C7-E8A0A3D83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10407-346B-48B2-AB8D-80A318E60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0398B-FD31-44AD-9F0D-7EEDF5EBE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09A9B-9229-4F92-A7E3-299A62EC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EDCFA-6BBC-4968-8D3A-5200BF9D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31DA-DF12-403E-9409-FEBCC4AC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818F-A562-40C3-A4ED-7B5B38AFE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AF9EC-C4C2-4BF0-85A5-B1E66A102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799A0-F872-4E0B-8A84-CBE73D18C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73A7-A799-4C90-A996-1497F351BF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slideLayout" Target="../slideLayouts/slideLayout2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1"/>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1"/>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2"/>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3"/>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4"/>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5"/>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1"/>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2"/>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3"/>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4"/>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5"/>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6"/>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7"/>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8"/>
          <a:stretch/>
        </p:blipFill>
        <p:spPr>
          <a:xfrm>
            <a:off x="2664000" y="1292400"/>
            <a:ext cx="768240" cy="1109520"/>
          </a:xfrm>
          <a:prstGeom prst="rect">
            <a:avLst/>
          </a:prstGeom>
          <a:ln w="0">
            <a:noFill/>
          </a:ln>
        </p:spPr>
      </p:pic>
      <p:pic>
        <p:nvPicPr>
          <p:cNvPr id="151" name="Picture 25" descr="C:\Users\Sedgwick\AppData\Local\Microsoft\Windows\Temporary Internet Files\Content.IE5\IEC5JMX2\MCj00842420000[1].wmf"/>
          <p:cNvPicPr/>
          <p:nvPr/>
        </p:nvPicPr>
        <p:blipFill>
          <a:blip r:embed="rId9"/>
          <a:stretch/>
        </p:blipFill>
        <p:spPr>
          <a:xfrm>
            <a:off x="8375760" y="1292400"/>
            <a:ext cx="555480" cy="1109520"/>
          </a:xfrm>
          <a:prstGeom prst="rect">
            <a:avLst/>
          </a:prstGeom>
          <a:ln w="0">
            <a:noFill/>
          </a:ln>
        </p:spPr>
      </p:pic>
      <p:pic>
        <p:nvPicPr>
          <p:cNvPr id="152" name="Picture 20" descr="C:\Users\Sedgwick\AppData\Local\Microsoft\Windows\Temporary Internet Files\Content.IE5\IEC5JMX2\MCAN01558_0000[1].wmf"/>
          <p:cNvPicPr/>
          <p:nvPr/>
        </p:nvPicPr>
        <p:blipFill>
          <a:blip r:embed="rId10"/>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1"/>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2"/>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3"/>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4"/>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5"/>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6"/>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1"/>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2"/>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3"/>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4"/>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5"/>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6"/>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7"/>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8"/>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9"/>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0"/>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Sedgwick</cp:lastModifiedBy>
  <dcterms:modified xsi:type="dcterms:W3CDTF">2008-11-10T22:47:38Z</dcterms:modified>
  <cp:revision>48</cp:revision>
  <dc:subject>Math</dc:subject>
  <dc:title>Penguin Math Book - Kindergarten</dc:title>
</cp:coreProperties>
</file>