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444D-AE23-42CA-9CA8-26B33EA1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F5E8-8975-409D-BB52-AF83CBAA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62B-6D0A-4AE3-A49D-AA564A8C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DAD7-4FBF-4411-B2EC-8B0143B1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6D9-427C-4DC7-A21B-C1E5E12B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A9C-AB0C-4F6A-A764-8F6781AC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B4D4-CF12-46C1-AE17-9A07AF2E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99F-C83F-46EE-BA19-C15B225F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584B-CFCB-49E5-ADA5-B47759BA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552-40E7-4FD7-9C7F-F6D71E5F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3C0-9F0B-4202-8C8E-E6AD7824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6E9-4B9A-49E3-893F-7843EDAC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E55F-F1B0-4A84-A3C3-C90453156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50000">
              <a:srgbClr val="ffff00"/>
            </a:gs>
            <a:gs pos="100000">
              <a:srgbClr val="cc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304920"/>
            <a:ext cx="510552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operatio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1447920"/>
            <a:ext cx="4648320" cy="1904760"/>
          </a:xfrm>
          <a:custGeom>
            <a:avLst/>
            <a:gdLst>
              <a:gd name="textAreaLeft" fmla="*/ 0 w 4648320"/>
              <a:gd name="textAreaRight" fmla="*/ 4648680 w 4648320"/>
              <a:gd name="textAreaTop" fmla="*/ 246960 h 1904760"/>
              <a:gd name="textAreaBottom" fmla="*/ 165816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Cooper Black"/>
              </a:rPr>
              <a:t>Get</a:t>
            </a:r>
            <a:r>
              <a:rPr b="0" lang="en-US" sz="3200" spc="-1" strike="noStrike">
                <a:solidFill>
                  <a:srgbClr val="ffff00"/>
                </a:solidFill>
                <a:latin typeface="Cooper Black"/>
              </a:rPr>
              <a:t> </a:t>
            </a:r>
            <a:r>
              <a:rPr b="0" lang="en-US" sz="3200" spc="-1" strike="noStrike">
                <a:solidFill>
                  <a:srgbClr val="cc00ff"/>
                </a:solidFill>
                <a:latin typeface="Cooper Black"/>
              </a:rPr>
              <a:t>along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3124080" cy="3276360"/>
          </a:xfrm>
          <a:prstGeom prst="star5">
            <a:avLst/>
          </a:prstGeom>
          <a:solidFill>
            <a:srgbClr val="cc99ff"/>
          </a:solidFill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3809880"/>
            <a:ext cx="13716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oper Black"/>
              </a:rPr>
              <a:t>You should work together and not argue.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3276720"/>
            <a:ext cx="3276360" cy="2666880"/>
          </a:xfrm>
          <a:custGeom>
            <a:avLst/>
            <a:gdLst>
              <a:gd name="textAreaLeft" fmla="*/ 747720 w 3276360"/>
              <a:gd name="textAreaRight" fmla="*/ 2528640 w 3276360"/>
              <a:gd name="textAreaTop" fmla="*/ 608760 h 2666880"/>
              <a:gd name="textAreaBottom" fmla="*/ 205812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411480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Cooper Black"/>
              </a:rPr>
              <a:t>Share with others who want to use a to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2895480"/>
            <a:ext cx="3200400" cy="3353040"/>
          </a:xfrm>
          <a:prstGeom prst="star5">
            <a:avLst/>
          </a:prstGeom>
          <a:solidFill>
            <a:srgbClr val="cc99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4191120"/>
            <a:ext cx="14479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oper Black"/>
              </a:rPr>
              <a:t>If you follow the rules  you won’t get in             trou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6415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oper Black"/>
              </a:rPr>
              <a:t>Cooper</a:t>
            </a:r>
            <a:r>
              <a:rPr b="0" lang="en-US" sz="1800" spc="-1" strike="noStrike">
                <a:solidFill>
                  <a:srgbClr val="ffff00"/>
                </a:solidFill>
                <a:latin typeface="Cooper Black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Cooper Black"/>
              </a:rPr>
              <a:t>and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5:40:03Z</dcterms:created>
  <dc:creator>Registered User</dc:creator>
  <dc:description/>
  <dc:language>en-US</dc:language>
  <cp:lastModifiedBy>Preferred Customer</cp:lastModifiedBy>
  <dcterms:modified xsi:type="dcterms:W3CDTF">2008-03-22T03:49:46Z</dcterms:modified>
  <cp:revision>8</cp:revision>
  <dc:subject/>
  <dc:title>Slide 1</dc:title>
</cp:coreProperties>
</file>