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0B8-8D58-4AD8-9E8A-C1C5D063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7DC-D0A8-4E01-86E8-E006B44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E64-18CA-43D1-924D-11CF941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0EC-AF66-4F86-AA40-16C7D6BC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632-78C0-4A14-B3AE-2BEFC99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238-7D3A-48AA-9B4D-73D39C8A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A7C-028C-4C5B-91C9-67CE5C1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907-A339-4CBB-A84F-907B8AF2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ECC-EC04-40A2-924C-0AB3ABC9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6BE-E585-4AEF-AA2F-998BDAB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1CB-5E40-4B5E-9B93-F69B739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BC2-0645-4F01-AB69-5343786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E5DA-02B8-4027-BA08-6F106741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00"/>
            </a:gs>
            <a:gs pos="100000">
              <a:srgbClr val="cc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04920"/>
            <a:ext cx="51055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per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447920"/>
            <a:ext cx="4648320" cy="1904760"/>
          </a:xfrm>
          <a:custGeom>
            <a:avLst/>
            <a:gdLst>
              <a:gd name="textAreaLeft" fmla="*/ 0 w 4648320"/>
              <a:gd name="textAreaRight" fmla="*/ 4648680 w 4648320"/>
              <a:gd name="textAreaTop" fmla="*/ 246960 h 1904760"/>
              <a:gd name="textAreaBottom" fmla="*/ 16581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Get</a:t>
            </a:r>
            <a:r>
              <a:rPr b="0" lang="en-US" sz="32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along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3124080" cy="3276360"/>
          </a:xfrm>
          <a:prstGeom prst="star5">
            <a:avLst/>
          </a:prstGeom>
          <a:solidFill>
            <a:srgbClr val="cc99ff"/>
          </a:solidFill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9880"/>
            <a:ext cx="1371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You should work together and not argue.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276720"/>
            <a:ext cx="3276360" cy="266688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1148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Cooper Black"/>
              </a:rPr>
              <a:t>Share with others who want to use a to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895480"/>
            <a:ext cx="3200400" cy="3353040"/>
          </a:xfrm>
          <a:prstGeom prst="star5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191120"/>
            <a:ext cx="1447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If you follow the rules  you won’t get in             trou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Cooper</a:t>
            </a:r>
            <a:r>
              <a:rPr b="0" lang="en-US" sz="18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and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40:03Z</dcterms:created>
  <dc:creator>Registered User</dc:creator>
  <dc:description/>
  <dc:language>en-US</dc:language>
  <cp:lastModifiedBy>Preferred Customer</cp:lastModifiedBy>
  <dcterms:modified xsi:type="dcterms:W3CDTF">2008-03-22T03:49:46Z</dcterms:modified>
  <cp:revision>8</cp:revision>
  <dc:subject/>
  <dc:title>Slide 1</dc:title>
</cp:coreProperties>
</file>