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9474-5B4A-4281-B7D6-03D4F4814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33B9-691F-42C9-8F7B-6A22E3C67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C4B4-4226-4485-A31B-4911CCE28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B258-DCB2-47A1-A19E-52791F459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2A1E-9280-42F2-9F46-A7A5FC882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363F-36E0-40C6-BEC0-A58862414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C8E4-04CF-4E87-9021-9DD5BD785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3F43-1ED2-4595-A4C6-749433BA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E457-3DE3-44DF-B0FA-9B3DE6612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2D1E-C759-4872-925A-DFCC6C0A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6265-480A-4EDB-902E-AF24F83F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7F3D-BEBD-4661-B370-57568D1C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B818D-ECCF-4E29-B0D7-EB1B04C78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50000">
              <a:srgbClr val="ffff00"/>
            </a:gs>
            <a:gs pos="100000">
              <a:srgbClr val="cc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752480" y="304920"/>
            <a:ext cx="510552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cc99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operation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cc99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1447920"/>
            <a:ext cx="4648320" cy="1904760"/>
          </a:xfrm>
          <a:custGeom>
            <a:avLst/>
            <a:gdLst>
              <a:gd name="textAreaLeft" fmla="*/ 0 w 4648320"/>
              <a:gd name="textAreaRight" fmla="*/ 4648680 w 4648320"/>
              <a:gd name="textAreaTop" fmla="*/ 246960 h 1904760"/>
              <a:gd name="textAreaBottom" fmla="*/ 165816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00"/>
          </a:solidFill>
          <a:ln w="7632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ff"/>
                </a:solidFill>
                <a:latin typeface="Cooper Black"/>
              </a:rPr>
              <a:t>Get</a:t>
            </a:r>
            <a:r>
              <a:rPr b="0" lang="en-US" sz="3200" spc="-1" strike="noStrike">
                <a:solidFill>
                  <a:srgbClr val="ffff00"/>
                </a:solidFill>
                <a:latin typeface="Cooper Black"/>
              </a:rPr>
              <a:t> </a:t>
            </a:r>
            <a:r>
              <a:rPr b="0" lang="en-US" sz="3200" spc="-1" strike="noStrike">
                <a:solidFill>
                  <a:srgbClr val="cc00ff"/>
                </a:solidFill>
                <a:latin typeface="Cooper Black"/>
              </a:rPr>
              <a:t>along with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3124080" cy="3276360"/>
          </a:xfrm>
          <a:prstGeom prst="star5">
            <a:avLst/>
          </a:prstGeom>
          <a:solidFill>
            <a:srgbClr val="cc99ff"/>
          </a:solidFill>
          <a:ln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3809880"/>
            <a:ext cx="137160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oper Black"/>
              </a:rPr>
              <a:t>You should work together and not argue.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19520" y="3276720"/>
            <a:ext cx="3276360" cy="2666880"/>
          </a:xfrm>
          <a:custGeom>
            <a:avLst/>
            <a:gdLst>
              <a:gd name="textAreaLeft" fmla="*/ 747720 w 3276360"/>
              <a:gd name="textAreaRight" fmla="*/ 2528640 w 3276360"/>
              <a:gd name="textAreaTop" fmla="*/ 608760 h 2666880"/>
              <a:gd name="textAreaBottom" fmla="*/ 205812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7632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52680" y="4114800"/>
            <a:ext cx="243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ff"/>
                </a:solidFill>
                <a:latin typeface="Cooper Black"/>
              </a:rPr>
              <a:t>Share with others who want to use a toy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3600" y="2895480"/>
            <a:ext cx="3200400" cy="3353040"/>
          </a:xfrm>
          <a:prstGeom prst="star5">
            <a:avLst/>
          </a:prstGeom>
          <a:solidFill>
            <a:srgbClr val="cc99ff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0" y="4191120"/>
            <a:ext cx="14479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oper Black"/>
              </a:rPr>
              <a:t>If you follow the rules  you won’t get in             trou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62920" y="6415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oper Black"/>
              </a:rPr>
              <a:t>Cooper</a:t>
            </a:r>
            <a:r>
              <a:rPr b="0" lang="en-US" sz="1800" spc="-1" strike="noStrike">
                <a:solidFill>
                  <a:srgbClr val="ffff00"/>
                </a:solidFill>
                <a:latin typeface="Cooper Black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Cooper Black"/>
              </a:rPr>
              <a:t>and Hu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15:40:03Z</dcterms:created>
  <dc:creator>Registered User</dc:creator>
  <dc:description/>
  <dc:language>en-US</dc:language>
  <cp:lastModifiedBy>Preferred Customer</cp:lastModifiedBy>
  <dcterms:modified xsi:type="dcterms:W3CDTF">2008-03-22T03:49:46Z</dcterms:modified>
  <cp:revision>8</cp:revision>
  <dc:subject/>
  <dc:title>Slide 1</dc:title>
</cp:coreProperties>
</file>