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22B-C211-4184-A0D6-772DFA8D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CA4-6CB1-4A4B-B4B3-97A6B566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604-1820-4792-B103-307380EE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5E1-8F3E-428B-A6E2-940E267D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9F0-32E3-4DEF-BD1C-5821DDBE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25A6-92D1-4C91-9BA2-D475EF62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E99-9005-4FE4-BE1E-995C4965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229-1A16-4560-BD3F-88A12D95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94F-D22D-4A35-9D3F-678B3B5D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F13-6D34-4520-BC56-9A0574EC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5B4-A09C-4EAC-8DFD-57D5E509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AE9-C103-4106-99A7-3454FC93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DDDD-6C01-4BBC-BFA2-412318327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50000">
              <a:srgbClr val="ffff00"/>
            </a:gs>
            <a:gs pos="100000">
              <a:srgbClr val="cc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304920"/>
            <a:ext cx="51055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operat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1447920"/>
            <a:ext cx="4648320" cy="1904760"/>
          </a:xfrm>
          <a:custGeom>
            <a:avLst/>
            <a:gdLst>
              <a:gd name="textAreaLeft" fmla="*/ 0 w 4648320"/>
              <a:gd name="textAreaRight" fmla="*/ 4648680 w 4648320"/>
              <a:gd name="textAreaTop" fmla="*/ 246960 h 1904760"/>
              <a:gd name="textAreaBottom" fmla="*/ 165816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oper Black"/>
              </a:rPr>
              <a:t>Get</a:t>
            </a:r>
            <a:r>
              <a:rPr b="0" lang="en-US" sz="3200" spc="-1" strike="noStrike">
                <a:solidFill>
                  <a:srgbClr val="ffff00"/>
                </a:solidFill>
                <a:latin typeface="Cooper Black"/>
              </a:rPr>
              <a:t> </a:t>
            </a:r>
            <a:r>
              <a:rPr b="0" lang="en-US" sz="3200" spc="-1" strike="noStrike">
                <a:solidFill>
                  <a:srgbClr val="cc00ff"/>
                </a:solidFill>
                <a:latin typeface="Cooper Black"/>
              </a:rPr>
              <a:t>along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3124080" cy="3276360"/>
          </a:xfrm>
          <a:prstGeom prst="star5">
            <a:avLst/>
          </a:prstGeom>
          <a:solidFill>
            <a:srgbClr val="cc99ff"/>
          </a:solidFill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3809880"/>
            <a:ext cx="13716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oper Black"/>
              </a:rPr>
              <a:t>You should work together and not argue.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3276720"/>
            <a:ext cx="3276360" cy="2666880"/>
          </a:xfrm>
          <a:custGeom>
            <a:avLst/>
            <a:gdLst>
              <a:gd name="textAreaLeft" fmla="*/ 747720 w 3276360"/>
              <a:gd name="textAreaRight" fmla="*/ 2528640 w 3276360"/>
              <a:gd name="textAreaTop" fmla="*/ 608760 h 2666880"/>
              <a:gd name="textAreaBottom" fmla="*/ 205812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41148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Cooper Black"/>
              </a:rPr>
              <a:t>Share with others who want to use a to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895480"/>
            <a:ext cx="3200400" cy="3353040"/>
          </a:xfrm>
          <a:prstGeom prst="star5">
            <a:avLst/>
          </a:prstGeom>
          <a:solidFill>
            <a:srgbClr val="cc99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4191120"/>
            <a:ext cx="14479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oper Black"/>
              </a:rPr>
              <a:t>If you follow the rules  you won’t get in             trou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oper Black"/>
              </a:rPr>
              <a:t>Cooper</a:t>
            </a:r>
            <a:r>
              <a:rPr b="0" lang="en-US" sz="1800" spc="-1" strike="noStrike">
                <a:solidFill>
                  <a:srgbClr val="ffff00"/>
                </a:solidFill>
                <a:latin typeface="Cooper Black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Cooper Black"/>
              </a:rPr>
              <a:t>and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5:40:03Z</dcterms:created>
  <dc:creator>Registered User</dc:creator>
  <dc:description/>
  <dc:language>en-US</dc:language>
  <cp:lastModifiedBy>Preferred Customer</cp:lastModifiedBy>
  <dcterms:modified xsi:type="dcterms:W3CDTF">2008-03-22T03:49:46Z</dcterms:modified>
  <cp:revision>8</cp:revision>
  <dc:subject/>
  <dc:title>Slide 1</dc:title>
</cp:coreProperties>
</file>