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BDA-0FC1-4268-ADDF-667F98AC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9CC-1FDA-4511-9592-5E9EC19B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19B-CEC6-4234-8258-70D32726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175C-3225-402E-A89C-7D29F097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A3E-65F3-4450-94C5-EA43142A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9CB-6899-402A-B43B-2CF1BB89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98BD-A1BA-44FB-B24F-7DFE7E8A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244-07EC-43D8-BA67-AB89BA76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02B-52C3-4A6E-A70E-28C1C59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CCF-1BBF-490B-981C-5EFE8E90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7CA-6DB9-4152-9CA5-4883033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C63-841E-4992-BE22-96FBBA8C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06E-AACE-4D2D-A563-634C53D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F5B-CA78-4D3D-BC28-B17515C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E6C-7BF6-4FD4-9298-BE1E8FF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C71-19FE-4677-B99C-79ED142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7F5-62E8-4414-A61F-8D63135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D8D-76D5-4C2B-B0A3-F05C6E8C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786-6546-4093-93D6-3971C9CE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5F6-D601-4EF2-BE57-38532DCD7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Preferred Customer</cp:lastModifiedBy>
  <dcterms:modified xsi:type="dcterms:W3CDTF">2009-01-12T02:43:25Z</dcterms:modified>
  <cp:revision>46</cp:revision>
  <dc:subject>Math</dc:subject>
  <dc:title>Penguin Math Book 1st Grade</dc:title>
</cp:coreProperties>
</file>