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D446-F07C-454B-A25D-18A7D3F5E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2B4D-9CEC-46E2-B21F-60EB1A897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272B-0E3D-4443-8BBD-B6CB3D335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6C93-73C9-4BF7-BFA8-DFA3758C0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9A26-467B-4821-A0FB-2CA7815DA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7DF1-A275-4755-97C3-D2966715D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B9EF-E2ED-4A2B-AE59-027648477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8C72A-113D-4E44-9B7E-DFE645909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1BA5A-D509-4C9F-9F2A-A92557AF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A341-1FF0-4FB6-8C46-7D15564A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9828-4048-4464-8775-1B3766C9C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C2609-895B-4522-B67B-1FFFD307B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3663-E032-48CA-AAE8-B19B49D0C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06A3-65DE-47E1-BE0A-608FBA96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CBB1-C3B7-4418-8483-7F8176B2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3C06-532E-41A6-96AC-C343B22D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A6A5-2480-43AB-A207-B68AD0E5C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C4303-3751-4E85-AF85-69C490FDE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9B290-0C64-4D57-9A67-CC5F9322A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B71F-71CD-4374-99BD-FD24CFCF4A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9.png"/><Relationship Id="rId16" Type="http://schemas.openxmlformats.org/officeDocument/2006/relationships/image" Target="../media/image15.png"/><Relationship Id="rId17" Type="http://schemas.openxmlformats.org/officeDocument/2006/relationships/image" Target="../media/image14.wmf"/><Relationship Id="rId18" Type="http://schemas.openxmlformats.org/officeDocument/2006/relationships/image" Target="../media/image14.wmf"/><Relationship Id="rId19" Type="http://schemas.openxmlformats.org/officeDocument/2006/relationships/image" Target="../media/image14.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image" Target="../media/image14.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988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Preferred Customer</cp:lastModifiedBy>
  <dcterms:modified xsi:type="dcterms:W3CDTF">2009-01-12T02:45:01Z</dcterms:modified>
  <cp:revision>51</cp:revision>
  <dc:subject>Math</dc:subject>
  <dc:title>Penguin Math Book - 2nd Grade</dc:title>
</cp:coreProperties>
</file>