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8249-4218-417F-A3F0-3AE8FD83C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B416-37C3-4718-85A9-C7B696848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DC1F-CE39-4C5C-9B3C-91CA780F2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C5FA-E203-46BD-BED9-3F78A8040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4F82-3588-469F-B656-040337E6D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98BD-B62C-4E86-8C49-054BB681C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8CCD-1A64-4565-9179-85EEA1E57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19928-EA3D-44A5-80F3-505438BC8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4C1A6-30FF-45DE-8AB2-AC38480E2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4661-4F77-4ED0-B8C3-B11557AB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F7B3D-33D4-445B-B23D-2F8BC2F8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2948-7F41-47E6-97E1-BC3554D9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9753-1734-4515-9296-3CF8DE5B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2573-E31C-4225-9F8C-FC91C612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5AC7-946B-4564-ACE0-588C5682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CABA-DB41-4823-ABFD-B7E4C41BD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84A6-D909-4D2C-A596-FC467783E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0B420-50D6-46E0-9059-49276B331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A319-FDE6-457E-B7C1-919910BC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2D24-6AF4-47E6-8E67-344EABF3E3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slideLayout" Target="../slideLayouts/slideLayout2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1"/>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1"/>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2"/>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3"/>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4"/>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5"/>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1"/>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2"/>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3"/>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4"/>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5"/>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6"/>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7"/>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8"/>
          <a:stretch/>
        </p:blipFill>
        <p:spPr>
          <a:xfrm>
            <a:off x="2664000" y="1292400"/>
            <a:ext cx="768240" cy="1109520"/>
          </a:xfrm>
          <a:prstGeom prst="rect">
            <a:avLst/>
          </a:prstGeom>
          <a:ln w="0">
            <a:noFill/>
          </a:ln>
        </p:spPr>
      </p:pic>
      <p:pic>
        <p:nvPicPr>
          <p:cNvPr id="151" name="Picture 25" descr="C:\Users\Sedgwick\AppData\Local\Microsoft\Windows\Temporary Internet Files\Content.IE5\IEC5JMX2\MCj00842420000[1].wmf"/>
          <p:cNvPicPr/>
          <p:nvPr/>
        </p:nvPicPr>
        <p:blipFill>
          <a:blip r:embed="rId9"/>
          <a:stretch/>
        </p:blipFill>
        <p:spPr>
          <a:xfrm>
            <a:off x="8375760" y="1292400"/>
            <a:ext cx="555480" cy="1109520"/>
          </a:xfrm>
          <a:prstGeom prst="rect">
            <a:avLst/>
          </a:prstGeom>
          <a:ln w="0">
            <a:noFill/>
          </a:ln>
        </p:spPr>
      </p:pic>
      <p:pic>
        <p:nvPicPr>
          <p:cNvPr id="152" name="Picture 20" descr="C:\Users\Sedgwick\AppData\Local\Microsoft\Windows\Temporary Internet Files\Content.IE5\IEC5JMX2\MCAN01558_0000[1].wmf"/>
          <p:cNvPicPr/>
          <p:nvPr/>
        </p:nvPicPr>
        <p:blipFill>
          <a:blip r:embed="rId10"/>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1"/>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2"/>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3"/>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4"/>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5"/>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6"/>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1"/>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2"/>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3"/>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4"/>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5"/>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6"/>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7"/>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8"/>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9"/>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0"/>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Sedgwick</cp:lastModifiedBy>
  <dcterms:modified xsi:type="dcterms:W3CDTF">2008-11-10T22:47:38Z</dcterms:modified>
  <cp:revision>48</cp:revision>
  <dc:subject>Math</dc:subject>
  <dc:title>Penguin Math Book - Kindergarten</dc:title>
</cp:coreProperties>
</file>